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A327-C040-4BF9-9A3D-2AE085FCC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B3A6-BD53-4776-B227-A022F914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0859-D24F-4AA4-B785-BE8C8B63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9111-3C90-476D-B025-72965AA73F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3FAFB-5711-46B0-9DCF-763F2980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07B58-E51D-4AE4-B8DB-CBE80399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089A9-DC70-44DB-AC2D-5A4E12CD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0F8EA-FB23-476C-9D5D-0C6B7869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643AA-189B-453E-A6DD-EE927A61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11EE8-FC8D-4EAE-9A7B-29CD5AC8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F481F-2411-48CA-87B2-ACB7EFBE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9CBA-64BA-48BA-9F80-201D04F3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F70CE-850E-47B7-A4D8-3410C6DF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E0813-E402-4BEC-B359-9527AB22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290ED-5239-407F-9DC9-32FB46C1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BB826-FBB7-4CDB-899E-8E31A207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1C2CC-C018-43F0-98C3-E22E368D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0ED3-DC62-4BC0-845F-5BBCE85E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A391-7157-41DF-8BAF-82E78998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AD71-8510-4DDB-B75E-1E6E4344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84AC-CFD5-42FF-9E18-3A7B375D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F013-2DAA-4850-AE01-887AABED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16E0-7EC0-4130-95E7-99B19754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671E-4688-4431-9702-42A63A62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19360" y="62485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76760" y="62485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34CC-248B-48D5-8293-E196F5E37E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H="1">
            <a:off x="456840" y="66294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0080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1999 - msconsul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4951-8E2F-4FF0-907D-7A8A9C7C22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scholz@msconsulting.de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jobs@msconsulting.de" TargetMode="External"/><Relationship Id="rId2" Type="http://schemas.openxmlformats.org/officeDocument/2006/relationships/hyperlink" Target="mailto:jobs@msconsulting.de" TargetMode="Externa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34286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ent/Server-Entwicklung mit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cess2000 und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SDE &amp; SQL Server 7.0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FileServer - Client/Serve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s FileServer-Prin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r „File“-Server ist passi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tenpräsentation und Anwendung befinden sich auf dem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les läuft auf dem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.B. „reine“ Access-Anwe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FileServer - Client/Serve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 Client/Server-Prin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Server arbeitet „aktiv“ 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findet eine Lastverteilung stat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 Extremfall kümmert sich der Client nur um Bildschirmausgabe, Tastatur und Maus, z.B. Windows 2000 Terminal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er Datenbankmark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98680" y="1828800"/>
          <a:ext cx="7645320" cy="42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1828800"/>
                    <a:ext cx="764532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ile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ccess ist dominier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eueste Version Access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racle Marktfüh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QL Server 7.0 seit 1998 verfüg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itere ... Sybase, Informix, Cen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arum Microsoft SQL Server? (1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ackOffice-Produ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reits jetzt hoher Marktante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it 1 Jahr verfüg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hr modernes System, neueste Technologie (COM/DCOM, MM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mfangreiche Tests vor Ausliefer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hr wenige Bu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unktionierende Replikati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arum Microsoft SQL Server? (2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kalierbarke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kalierbar von Notebook bis zu Cluster-Serv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e Codebasis von Desktop bis hin zu Enterprise (USP von SQL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ünstige „cost of ownership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arum Microsoft SQL Server? (3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ook and fe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gration in Windows 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eicht zu bedie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ele Wiz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„leichte“ Aufgaben kein DBAd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gration in MM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arum Microsoft SQL Server (4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p-Performance unter NT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el schneller als SQL Server 6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gration zu Access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 ADPs direkt verwend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SDE als Alternative zu J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ünde für den Umstieg (1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ste Integration in Office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ccess Data Projects mit CS Visual Design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SDE als schlanker SQL7 integr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e Codebasis vom Notebook bis zum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abile“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ünde für den Umstieg (2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ele gleichzeitige User, hohes Trans-aktionsvolu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erformance von Access sinkt bei vielen Usern und/oder vielen Transaktio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ohe Netzwerkbelastung durch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it Access2000 immerhin row level locking verfügba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ünde für den Umstieg (3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fügbarke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QLServer ist 24 h Stunden, 7 Tage pro Woche verfüg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grierte Recovery-Fähigkei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nline Backu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er wir sind, wer ich bin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057400"/>
            <a:ext cx="6172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5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pl.-Kfm. Michael Schol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sconsul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Unternehmensberatung &amp; IT-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uhleshütte 8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47809 Kref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el.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0 21 51 / 56 94 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x.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0 21 51 / 56 94 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mscholz@msconsulting.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ttp://www.msconsulting.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ünde für den Umstieg (4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roße Datenbestän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lagern von business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schäftsregeln werden zentral geprü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ehen auch anderen Anwendungen zur Verfüg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eichtere Wartbark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ünde für den Umstieg (5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cherhe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QL- oder NT-Sicherheit wähl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ohe Sicherheit und Zugriffsschu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griertes Transaktionsprotoko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griff über WANs, z.B. per 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ra-/Internet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371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k, Sie haben uns überzeugt ..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98108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 entwickeln mit SQL7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61960" y="2362320"/>
            <a:ext cx="5638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... aber       </a:t>
            </a:r>
            <a:r>
              <a:rPr b="0" i="1" lang="en-US" sz="9600" spc="-1" strike="noStrike">
                <a:solidFill>
                  <a:srgbClr val="000000"/>
                </a:solidFill>
                <a:latin typeface="Arial"/>
              </a:rPr>
              <a:t>wie?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162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... und was sollte ich beachten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297180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SDE oder SQL Server 7.0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MSDE – Microsoft Data Engin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ngt SQL7 auf den Desk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kaler Spei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gentlich ein „richtiger“ SQL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ine grafischen Verwaltungs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waltung in Access2000 integriert (Anlegen, Backup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ert für bis zu 5 Verbind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MSDE – Microsoft Data Engin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schränkungen“ MS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.B. keine parallelen Abfragen, keine read-ahead-Scans, keine Hash- und Mergeverknüpfunge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x. DB-Size 2 Giga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Enterprise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m Prinzip nur lokal oder in Arbeitsgruppen sinnvo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deal zum Prototy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QL Server 7.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sionen und Verfügbarke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andard Edition, z.B. für NT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terprise Edition, z.B. für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orteile gegenüber MS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kalierbar „ohne Ende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hr gute Performance im LAN/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niale grafische Verwaltungs-/Design- und Query-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nstallation MSD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ffice 2000 Prem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llversion“ mit grafischen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\SQL\x86\Setup\setupsql.exe install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alle: Access2000 müssen installiert sein, kein „richtiger“ SQL7 erlaub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m wesentlichen wie Installation von SQL 7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as macht msconsulting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nsulting Microsoft BackOff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dividuelle Schul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ffice/BackOffice-Programm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b-Applikat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triebssteuerungssyst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jektabrechnungssyst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nstallation MSD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ffice 2000 Develo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thält distribuierbare Version von MS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lbstextrahierende Laufzeit-Engine ohne Benutzeroberflä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ispiel auf der CD unter \ODETools\v9\Samples\MS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nstallation SQL Server 7.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m Prinzip wie MS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raucht Internet Explo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lient braucht entweder MSDE, SQL on the desktop oder Zugriffskomponenten (SQL 7 ODBC o.ä., installierbar über Data Access Pac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urra, es wurde installiert!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fault ist C:\MSSQL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\Data enthält Datenbanken und Transaktions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\ReplData enthält Replikaitions-Snapsh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nter NT wurden Dienste installier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er Taskbar ist ein neues Ic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tarten von SQL Server 7.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ehrere Methoden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art über Men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art über Dienste unter 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.B. „net start mssqlserver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art über DMO (Distributed Management Objects) direkt z.B. von Access a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eispiel: Starten von SQL Server 7.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25146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Vorüberlegungen bei ADP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DPs - Vorüberlegung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chtige Fragestell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eues Projekt oder Migration vorhandener Access-Applikation, dan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-&gt; Upsizing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rwendung von DAO oder A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satz von Objektmodellen bzw. Klassenmodulen sinnvol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DP – Upsizing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te Datenbankstruktur überde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te Anwendung prü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psizing Assistent – ja oder nei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DP - Upsizing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tenbankstruktur überde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ft pflegt man „alte Hüte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dundanzen beseitigen - normalisiere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bleme bei Tabellen und Feld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imärschlüssel definie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eld- und Tabellennamen unkritis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lausibilitätsprüfu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ferentielle Integrität, cascading update/dele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DP - Upsizing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st die Anwendung C/S-fähi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abellen als (ungefilterte) Recordsour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i Abfragen werden alle Felder gewäh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bundene Formul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rwenden von Fil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blem Listen-/Kombinationsfe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ccess-typische Ausdrücke/Funktio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art codierte business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Unsere Zertifizierung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DP - Upsizing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SQL Server oder MS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hl zwischen MSDE und SQL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W/SW-Voraussetzungen erfüll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QL oder NT-Sicherhei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DP – Upsizing Assisten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r Upsizing As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stenlos im Internet verfüg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fache und schnelle Möglichke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i SQL 7.0 Nutzung von DTS (data transformation servi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frufen unter „Extras“, „Datenbank-Dienstprogramme“, „Upsizing Assistent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DP – Upsizing Assisten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s macht der Upsizing Wizar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xportiert Tabellen auf SQL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überprüft z.B. Feld- und Tabellenna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übernimmt Defaultwerte und 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stellt Views und stored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ellt nicht (!) auf ADO 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nach ist Weiterarbeit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er: Meistens Performance-Schock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– DAO oder AD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te“ Zugriffsmeth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ODBC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 Access 2000 mit JET Engine 4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sgereif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- AD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O – ActiveX Data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eue“ Zugriffstechnolo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s COM InProc-Server implementiert (language-neutr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griff auf relationale und nicht-relationale Date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griff erfolgt über OLE-DB-Provider, ADO-Objektmodell immer gle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- AD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Zukunft von MS unterstütztes Objekt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in Access 2000 AD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zeit Version 2.1 aktu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ntwickeln von Access Daten Projekt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as ist ein Access Daten Projekt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ss Daten Projekt (AD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öglichkeit zur Erstellung von C/S-Anwend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ver Zugriff auf SQL7 über OLE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hält nur code- oder HTML-basierte Objek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ine (!) Daten oder an Daten gebundene Objekte (Abfrag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as ist ein Access Daten Projekt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00200" y="1828800"/>
          <a:ext cx="6172200" cy="39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617220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Unterstützung von SQL-Datenbank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SQL Server 7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Date Engine (MS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QL Server 6.5 mit SP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racle mit nächster Access-Version?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Join the team ..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r suchen Freiberufler und festangestellte Mitarbei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prechen Sie mich 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der per Mail: </a:t>
            </a:r>
            <a:r>
              <a:rPr b="0" lang="de-DE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jobs</a:t>
            </a:r>
            <a:r>
              <a:rPr b="0" lang="de-DE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@msconsulting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rstellung eines ADP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wei Situat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QL-Datenbank bereits vorhan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eues Access Daten Proje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 werden Infos gespeicher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DP: Formulare, Berichte, Makros,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QL: Tabellen, Views, Beziehungen, stored procedures und: Rechte !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rstellung eines ADP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Data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thält Verbindungsinfo für OLE DB-Que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frufbar über „Datei“, „Verbindungen“ oder Programm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andard-Login ist „sa“ (Bitte Password unbedingt ändern!!!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209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emo – Erstellen eines ADP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- Arbeiten mit Tabell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abellen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gelegt an Enterprise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odifizierter Tabellende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 speichern, dann änder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dere Datentypen als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DENTITY-Wert komfortab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OWGUID z.B. zur Replik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DP – Arbeiten mit View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ews (Sicht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m Prinzip Auswahlabfra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ORDER BY unterstütz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QL-Befehle direkt eingeben oder grafischen Designer verwen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ind grundsätzlich änder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– Arbeiten mit Beziehung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tenbankdiagra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 Diagramme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mfortables Definieren von Bezieh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cascading udpate/delete verfüg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aktisch zur Doku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Änderungen werden erst beim Speichern durchgeführ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– Gespeicherte Prozedur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tored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ühren Aufgaben wie Inserts, Updates, Deletes, Archivierung etc. a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-SQL is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F ... ELSE verwend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ariablen deklarier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arameter können verwende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– Administration SQL Serve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ackup und Restore direkt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öschen von Datenbanken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rwalten der DB-Sicherheit möglich (Logins, User, Roll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plikationseinstellungen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– Formulare gestalt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cord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abelle, View oder stored procedure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ann schreibgeschützt sei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cordsource ist Snapshot oder aktualisierbarer Snaps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– Formulare gestalt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eue Eigenschaften (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cordsetty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x. Datensätze Schaltflä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xDatensät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rverfilter (nicht bei stored procedu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514600"/>
            <a:ext cx="4648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Jetzt geht es l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– Formulare gestalt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eue Eigenschaften (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ormularbasierter Serverfil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deutige Tabelle (bei 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sync-Befeh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gabeparameter (bei stored procedu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2133720"/>
            <a:ext cx="5181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ieh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inistration von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erpris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– Arbeiten mit AD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rbeiten mit 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mpfehlung: Nordwind-Projekt install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DO ist ein wenig anders als DA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chtig: currentproject.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– Arbeiten mit AD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 Anlegen eines Datensatz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m con As ADODB.Conn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m rs As New ADODB.Records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et con = CurrentProject.Conn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rs.Open "Adressen", con, adOpenKeyset, adLockOptimisti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rs.AddNe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rs(„Firma“) = „test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rs.Upd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– Arbeiten mit AD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 Suchen eines Datensatz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m con As ADODB.Conn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m rs As New ADODB.Records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et con = CurrentProject.Conn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rs.Open "Adressen", con, adOpenKeyset, adLockOptimisti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rs.Find "FIRMA = 'Schulze'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MsgBox rs("Firma"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P – Arbeiten mit AD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 SQL-Befehl ausfüh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m con As ADODB.Conn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m cmd As ADODB.Comm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m strSQL As St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trSQL = "INSERT INTO ADRESSEN (FIRMA) VALUES ('TESTFIRMA')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et con = CurrentProject.Conn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et cmd = New ADODB.Comm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et cmd.ActiveConnection = c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cmd.CommandText = str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cmd.Execu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DP - Replikatio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plikationsunterstütz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rei Haus“ von SQL7 gelief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 Access 2000 integr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plikationsmeth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napshot-Replik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ansaktionsreplik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rge-Replikatio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DP - Replikatio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ie notwendigen Schrit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estlegen von Publisher, Distributor und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swählen der Replikations-Meth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llen von Publikatio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ush- oder Pull-Abonn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Überwachen der Replikation (Exkurs: Explorer und SQL Ag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DP – Probleme bei Replikatio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ögliche Probl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rwendung von IDENTITY-Datentypen ohne NOT FOR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Änderungen DBStruktur werden nicht replizie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onyme Subscriber können keine Merge-Replik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ehlende Rechte führen zum „Knall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438280" y="2971440"/>
            <a:ext cx="4572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mo: Replikatio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lient/Server - Was steckt dahin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SDE oder SQL Server 7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orüberlegungen bei ADPs (Access Daten Projekt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 von AD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ptimieren von AD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2362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ptimieren von ADPs, Probleme und Fehlerquell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obleme und Fehlerquell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dere DBObjekte und Datenty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s gibt keine Abfragen mehr, stattdessen Views und stored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s gibt nicht immer ein Äquivalent für die Access-Datentypen, z.B. Hyper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obleme und Fehlerquell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QL Synt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QL Server verwendet T-SQ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ccess-Funktionen wie len(x) heißen z.B. datalength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*, &amp;, ? werden von SQL7 nicht „verstanden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ptimieren von ADP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undregeln beacht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zwerkverkehr reduzieren, soviel Arbeit wie möglich dem Server überlasse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öglichst wenig Daten abfragen, nicht: „SELECT * FROM ADRESSEN“, sondern z.B. „SELECT NAME, ORT FROM ADRESSEN WHERE ID = 5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ptimieren von ADP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zahl Datensätze begren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ale Anzahl der Datensätze begrenzen, die von SQL Server gehol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.B. „SET ROWCOUNT 5“ in Abfra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.B. „Extras“, „Optionen“ bei A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ptimieren von ADP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tored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rkompilierte SQL Statements (T-SQ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önnen Logik enthalten (business obje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arameter sind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ten können vorsortier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ptimieren von ADP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rig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rden ausgeführt, sobald Daten eingefügt, geändert oder gelösch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.B. cascading updates/dele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önnen für Geschäftsregeln verwende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ptimieren von ADP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ormulare optim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 alles auf einmal lade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rverbasierte Filter verwenden, z.B. InputParameters-Eigenschaft (sps) oder Serverfilter (bei Views, Tabell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i Anfügen „Daten Eingeben“ verwen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atch-Updates oder Deletes verwen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ptimieren von ADP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rver nicht vergess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dundanzen verm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ferentielle Integrität verwen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assende Datentypen verwen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dizes verwen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gf. Timestamps verwen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sistenten zur DB-Wartung verwen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... und jetzt Ihre Frag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ent/Server - Was steckt dahinter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ent/Server - Was steckt dahinter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453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nterschiede FileServer - Client/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r Datenbankmar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schon wieder Microsof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nn sollten wir umstei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2T10:31:16Z</dcterms:created>
  <dc:creator>Dipl.-Kfm. Michael Scholz</dc:creator>
  <dc:description/>
  <dc:language>en-US</dc:language>
  <cp:lastModifiedBy>Christa Schwanke</cp:lastModifiedBy>
  <cp:lastPrinted>1998-09-29T18:08:16Z</cp:lastPrinted>
  <dcterms:modified xsi:type="dcterms:W3CDTF">1999-09-26T18:02:34Z</dcterms:modified>
  <cp:revision>213</cp:revision>
  <dc:subject/>
  <dc:title>Kein Folientitel</dc:title>
</cp:coreProperties>
</file>